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622-4480-46AA-B635-9B6F9E4D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7E5-266B-4C69-9967-F41FEBF9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115D-89DF-4623-A724-655322A3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F0DA-13A7-4ECF-A191-72CD83B4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82EA-BDE4-448C-988B-5687B8F3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F955-A89F-47B4-AC45-0D486030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9520-E4F8-4E5A-A2F4-D87EEA2E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6296-08CB-46F3-8ED3-F484A937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1A06-5161-4037-839D-8BA6FCDA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5554-E27F-421E-8BDD-F50C7AA5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6B6F-5D8E-48C8-8170-3EE328C0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AC43-860A-40D9-9175-1E5F4114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D0D4-D62E-489F-9FC7-0679AAAC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3239-FA81-44C6-9B4C-9703DAFB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B9A3-3C7F-4FF7-9267-D7F1B62A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C0F8-7F98-4CBF-AEA8-41D11EED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433B-A36F-4BAA-87C7-43125743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075-C688-4972-9810-856B197B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2D0C-33D6-4AAE-BA26-0C118C4F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4889-E05C-4DF3-8610-14D42E7B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7E65-88DA-4340-98CF-F9A636EF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343-B30B-4DF6-A8F3-6AD6ADDE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A0FD-4CFD-496E-B888-CF664504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AE6-3B6D-45AF-8D9F-C60BB090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527D-46CD-4B15-AE05-A722EB41966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3499-F068-4058-AC68-C04E9EFB129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huji.ac.il/~nir/Nips01-Tutorial/" TargetMode="External"/><Relationship Id="rId2" Type="http://schemas.openxmlformats.org/officeDocument/2006/relationships/hyperlink" Target="http://www.cs.berkeley.edu/~murphyk/Bayes/bayes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ial data and known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371600" y="2666880"/>
          <a:ext cx="2209680" cy="316872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3878280" y="412596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741920" y="2666520"/>
            <a:ext cx="3868560" cy="2628720"/>
            <a:chOff x="4741920" y="2666520"/>
            <a:chExt cx="3868560" cy="2628720"/>
          </a:xfrm>
        </p:grpSpPr>
        <p:sp>
          <p:nvSpPr>
            <p:cNvPr id="174" name=""/>
            <p:cNvSpPr/>
            <p:nvPr/>
          </p:nvSpPr>
          <p:spPr>
            <a:xfrm flipV="1">
              <a:off x="5257800" y="2666520"/>
              <a:ext cx="0" cy="2210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57800" y="4876920"/>
              <a:ext cx="3352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96240" y="48355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6200000">
              <a:off x="4463640" y="3588480"/>
              <a:ext cx="101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|D)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57800" y="3403440"/>
              <a:ext cx="3048120" cy="1473480"/>
            </a:xfrm>
            <a:custGeom>
              <a:avLst/>
              <a:gdLst/>
              <a:ahLst/>
              <a:rect l="l" t="t" r="r" b="b"/>
              <a:pathLst>
                <a:path w="1920" h="928">
                  <a:moveTo>
                    <a:pt x="0" y="928"/>
                  </a:moveTo>
                  <a:cubicBezTo>
                    <a:pt x="8" y="924"/>
                    <a:pt x="16" y="920"/>
                    <a:pt x="48" y="880"/>
                  </a:cubicBezTo>
                  <a:cubicBezTo>
                    <a:pt x="80" y="840"/>
                    <a:pt x="144" y="744"/>
                    <a:pt x="192" y="688"/>
                  </a:cubicBezTo>
                  <a:cubicBezTo>
                    <a:pt x="240" y="632"/>
                    <a:pt x="264" y="552"/>
                    <a:pt x="336" y="544"/>
                  </a:cubicBezTo>
                  <a:cubicBezTo>
                    <a:pt x="408" y="536"/>
                    <a:pt x="568" y="672"/>
                    <a:pt x="624" y="640"/>
                  </a:cubicBezTo>
                  <a:cubicBezTo>
                    <a:pt x="680" y="608"/>
                    <a:pt x="640" y="416"/>
                    <a:pt x="672" y="352"/>
                  </a:cubicBezTo>
                  <a:cubicBezTo>
                    <a:pt x="704" y="288"/>
                    <a:pt x="760" y="248"/>
                    <a:pt x="816" y="256"/>
                  </a:cubicBezTo>
                  <a:cubicBezTo>
                    <a:pt x="872" y="264"/>
                    <a:pt x="936" y="360"/>
                    <a:pt x="1008" y="400"/>
                  </a:cubicBezTo>
                  <a:cubicBezTo>
                    <a:pt x="1080" y="440"/>
                    <a:pt x="1176" y="560"/>
                    <a:pt x="1248" y="496"/>
                  </a:cubicBezTo>
                  <a:cubicBezTo>
                    <a:pt x="1320" y="432"/>
                    <a:pt x="1368" y="32"/>
                    <a:pt x="1440" y="16"/>
                  </a:cubicBezTo>
                  <a:cubicBezTo>
                    <a:pt x="1512" y="0"/>
                    <a:pt x="1600" y="248"/>
                    <a:pt x="1680" y="400"/>
                  </a:cubicBezTo>
                  <a:cubicBezTo>
                    <a:pt x="1760" y="552"/>
                    <a:pt x="1888" y="840"/>
                    <a:pt x="1920" y="9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819240" y="5429160"/>
            <a:ext cx="48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Times New Roman"/>
              </a:rPr>
              <a:t>Incomplete data means that the likelihood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Times New Roman"/>
              </a:rPr>
              <a:t>function can have multiple maxima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ial data and known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400" y="257508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xpectation Maximisation (Dempster, ‘77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 general purpose method for learning from incomplete d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f we had complete data, we could estimate parame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But with missing data, true counts needed are unknow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But we can estimate the true counts using probabilistic inference based on our current mod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e can then use “completed” counts as if they were real to re-estimate the parame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erform this as an iterative process until the solution converg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ial data and known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066680" y="2438280"/>
          <a:ext cx="1981440" cy="219096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=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=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=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066680" y="5334120"/>
                <a:ext cx="32004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85" name=""/>
          <p:cNvGraphicFramePr/>
          <p:nvPr/>
        </p:nvGraphicFramePr>
        <p:xfrm>
          <a:off x="4419720" y="2514600"/>
          <a:ext cx="4419360" cy="2505240"/>
        </p:xfrm>
        <a:graphic>
          <a:graphicData uri="http://schemas.openxmlformats.org/drawingml/2006/table">
            <a:tbl>
              <a:tblPr/>
              <a:tblGrid>
                <a:gridCol w="533160"/>
                <a:gridCol w="609840"/>
                <a:gridCol w="1218960"/>
                <a:gridCol w="20574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=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=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# o=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# o=F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 +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 - 0.2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 + 0.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 - 0.3) + ( 1 - 0.2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4199040" y="55864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The values on the left are determine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using techniques we saw in a previous lecture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ial data and known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400" y="257508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st compute all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at you can (ignoring all data that is miss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ose random values for the remaining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y EM process until L(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|D) conver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 guarantees tha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L(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30000">
                <a:solidFill>
                  <a:srgbClr val="003366"/>
                </a:solidFill>
                <a:latin typeface="Arial"/>
              </a:rPr>
              <a:t>k+1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D)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L(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30000">
                <a:solidFill>
                  <a:srgbClr val="003366"/>
                </a:solidFill>
                <a:latin typeface="Arial"/>
              </a:rPr>
              <a:t>k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D)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iteration numb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L(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30000">
                <a:solidFill>
                  <a:srgbClr val="003366"/>
                </a:solidFill>
                <a:latin typeface="Arial"/>
              </a:rPr>
              <a:t>k+1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D) = L(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30000">
                <a:solidFill>
                  <a:srgbClr val="003366"/>
                </a:solidFill>
                <a:latin typeface="Arial"/>
              </a:rPr>
              <a:t>k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D)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n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30000">
                <a:solidFill>
                  <a:srgbClr val="003366"/>
                </a:solidFill>
                <a:latin typeface="Arial"/>
              </a:rPr>
              <a:t>k+1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a stationary point which usually means a local maxim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lution not guaranteed globally optim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ial data and known structure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xpectation Maximisation iteratio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477120" y="3352680"/>
            <a:ext cx="1981080" cy="1554120"/>
            <a:chOff x="6477120" y="3352680"/>
            <a:chExt cx="1981080" cy="1554120"/>
          </a:xfrm>
        </p:grpSpPr>
        <p:grpSp>
          <p:nvGrpSpPr>
            <p:cNvPr id="191" name=""/>
            <p:cNvGrpSpPr/>
            <p:nvPr/>
          </p:nvGrpSpPr>
          <p:grpSpPr>
            <a:xfrm>
              <a:off x="6477120" y="3352680"/>
              <a:ext cx="685800" cy="685800"/>
              <a:chOff x="6477120" y="3352680"/>
              <a:chExt cx="685800" cy="685800"/>
            </a:xfrm>
          </p:grpSpPr>
          <p:sp>
            <p:nvSpPr>
              <p:cNvPr id="192" name=""/>
              <p:cNvSpPr/>
              <p:nvPr/>
            </p:nvSpPr>
            <p:spPr>
              <a:xfrm>
                <a:off x="6477120" y="33526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17520" y="34905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7116840" y="4221000"/>
              <a:ext cx="685800" cy="685800"/>
              <a:chOff x="7116840" y="4221000"/>
              <a:chExt cx="685800" cy="685800"/>
            </a:xfrm>
          </p:grpSpPr>
          <p:sp>
            <p:nvSpPr>
              <p:cNvPr id="195" name=""/>
              <p:cNvSpPr/>
              <p:nvPr/>
            </p:nvSpPr>
            <p:spPr>
              <a:xfrm>
                <a:off x="7116840" y="422100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257240" y="4358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772400" y="3352680"/>
              <a:ext cx="685800" cy="685800"/>
              <a:chOff x="7772400" y="3352680"/>
              <a:chExt cx="685800" cy="685800"/>
            </a:xfrm>
          </p:grpSpPr>
          <p:sp>
            <p:nvSpPr>
              <p:cNvPr id="198" name=""/>
              <p:cNvSpPr/>
              <p:nvPr/>
            </p:nvSpPr>
            <p:spPr>
              <a:xfrm>
                <a:off x="7772400" y="33526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912440" y="34905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7010640" y="3962160"/>
              <a:ext cx="228600" cy="30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696440" y="4038480"/>
              <a:ext cx="38088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066680" y="3352680"/>
            <a:ext cx="1981080" cy="1554120"/>
            <a:chOff x="1066680" y="3352680"/>
            <a:chExt cx="1981080" cy="1554120"/>
          </a:xfrm>
        </p:grpSpPr>
        <p:grpSp>
          <p:nvGrpSpPr>
            <p:cNvPr id="203" name=""/>
            <p:cNvGrpSpPr/>
            <p:nvPr/>
          </p:nvGrpSpPr>
          <p:grpSpPr>
            <a:xfrm>
              <a:off x="1066680" y="3352680"/>
              <a:ext cx="685800" cy="685800"/>
              <a:chOff x="1066680" y="3352680"/>
              <a:chExt cx="685800" cy="685800"/>
            </a:xfrm>
          </p:grpSpPr>
          <p:sp>
            <p:nvSpPr>
              <p:cNvPr id="204" name=""/>
              <p:cNvSpPr/>
              <p:nvPr/>
            </p:nvSpPr>
            <p:spPr>
              <a:xfrm>
                <a:off x="1066680" y="33526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07080" y="34905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1706400" y="4221000"/>
              <a:ext cx="685800" cy="685800"/>
              <a:chOff x="1706400" y="4221000"/>
              <a:chExt cx="685800" cy="685800"/>
            </a:xfrm>
          </p:grpSpPr>
          <p:sp>
            <p:nvSpPr>
              <p:cNvPr id="207" name=""/>
              <p:cNvSpPr/>
              <p:nvPr/>
            </p:nvSpPr>
            <p:spPr>
              <a:xfrm>
                <a:off x="1706400" y="422100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846800" y="4358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2361960" y="3352680"/>
              <a:ext cx="685800" cy="685800"/>
              <a:chOff x="2361960" y="3352680"/>
              <a:chExt cx="685800" cy="685800"/>
            </a:xfrm>
          </p:grpSpPr>
          <p:sp>
            <p:nvSpPr>
              <p:cNvPr id="210" name=""/>
              <p:cNvSpPr/>
              <p:nvPr/>
            </p:nvSpPr>
            <p:spPr>
              <a:xfrm>
                <a:off x="2361960" y="33526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02000" y="34905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1600200" y="3962160"/>
              <a:ext cx="228600" cy="30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286000" y="4038480"/>
              <a:ext cx="38088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809880" y="3124080"/>
            <a:ext cx="1524240" cy="2057400"/>
          </a:xfrm>
          <a:prstGeom prst="rect">
            <a:avLst/>
          </a:prstGeom>
          <a:solidFill>
            <a:srgbClr val="99cc99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</a:rPr>
              <a:t>Expected count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#(A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#(B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#(O,A,B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4191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4191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5410080"/>
            <a:ext cx="1676160" cy="1067040"/>
          </a:xfrm>
          <a:prstGeom prst="can">
            <a:avLst>
              <a:gd name="adj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aining Da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70280" y="45244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-ste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8680" y="4572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-ste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2590920"/>
            <a:ext cx="5410440" cy="380880"/>
          </a:xfrm>
          <a:custGeom>
            <a:avLst/>
            <a:gdLst/>
            <a:ahLst/>
            <a:rect l="l" t="t" r="r" b="b"/>
            <a:pathLst>
              <a:path w="3408" h="240">
                <a:moveTo>
                  <a:pt x="3408" y="240"/>
                </a:moveTo>
                <a:cubicBezTo>
                  <a:pt x="2804" y="120"/>
                  <a:pt x="2200" y="0"/>
                  <a:pt x="1632" y="0"/>
                </a:cubicBezTo>
                <a:cubicBezTo>
                  <a:pt x="1064" y="0"/>
                  <a:pt x="288" y="208"/>
                  <a:pt x="0" y="24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76320" y="4950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ial data and unknown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181480" y="2895480"/>
          <a:ext cx="2209680" cy="316872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1943280" y="2895480"/>
            <a:ext cx="1981080" cy="1554120"/>
            <a:chOff x="1943280" y="2895480"/>
            <a:chExt cx="1981080" cy="1554120"/>
          </a:xfrm>
        </p:grpSpPr>
        <p:grpSp>
          <p:nvGrpSpPr>
            <p:cNvPr id="225" name=""/>
            <p:cNvGrpSpPr/>
            <p:nvPr/>
          </p:nvGrpSpPr>
          <p:grpSpPr>
            <a:xfrm>
              <a:off x="1943280" y="2895480"/>
              <a:ext cx="685800" cy="685800"/>
              <a:chOff x="1943280" y="2895480"/>
              <a:chExt cx="685800" cy="685800"/>
            </a:xfrm>
          </p:grpSpPr>
          <p:sp>
            <p:nvSpPr>
              <p:cNvPr id="226" name=""/>
              <p:cNvSpPr/>
              <p:nvPr/>
            </p:nvSpPr>
            <p:spPr>
              <a:xfrm>
                <a:off x="1943280" y="28954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083680" y="3033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583000" y="3763800"/>
              <a:ext cx="685800" cy="685800"/>
              <a:chOff x="2583000" y="3763800"/>
              <a:chExt cx="685800" cy="685800"/>
            </a:xfrm>
          </p:grpSpPr>
          <p:sp>
            <p:nvSpPr>
              <p:cNvPr id="229" name=""/>
              <p:cNvSpPr/>
              <p:nvPr/>
            </p:nvSpPr>
            <p:spPr>
              <a:xfrm>
                <a:off x="2583000" y="376380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23400" y="39016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238560" y="2895480"/>
              <a:ext cx="685800" cy="685800"/>
              <a:chOff x="3238560" y="2895480"/>
              <a:chExt cx="685800" cy="685800"/>
            </a:xfrm>
          </p:grpSpPr>
          <p:sp>
            <p:nvSpPr>
              <p:cNvPr id="232" name=""/>
              <p:cNvSpPr/>
              <p:nvPr/>
            </p:nvSpPr>
            <p:spPr>
              <a:xfrm>
                <a:off x="3238560" y="28954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78600" y="30333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4" name=""/>
          <p:cNvSpPr/>
          <p:nvPr/>
        </p:nvSpPr>
        <p:spPr>
          <a:xfrm>
            <a:off x="973080" y="4952880"/>
            <a:ext cx="39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 hardest case: we ne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o establish structure and CP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using incomplete da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ial data and unknown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79400" y="237024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approach would be to conduct a search through model structure space (as we previously saw) and perform EM for each candidate grap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utationally expens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meter optimisation through EM not triv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nd a lot of time computing poor graph candid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pidly becomes computationally intrac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ial data and unknown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79400" y="237024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roximate solution using Structural 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lex in practic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forms a search in (structure,parameters) spac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 each iteration use current model to either improve parameters (“parametric” EM step) or to improve model structure (“structural” EM step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rther details are beyond the scope of this cour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can generalise the fully observable, known structure case for more complex BBN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cope with unknown structure, we need to iterate over the possible model struc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cope with partial data, we use the EM algorithm that “fills in” the missing data until the model converges. We cannot guarantee that we obtain the best global sol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58600" y="8028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90640" y="2612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search issu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ctive camer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Future challeng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xcellent tutorial at by Koller and Friedman: </a:t>
            </a: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cs.huji.ac.il/~nir/Nips01-Tutorial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lso by Murphy at: </a:t>
            </a: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cs.berkeley.edu/~murphyk/Bayes/bayes.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ome of today’s slides were adapted from these sour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1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Bayesian Belief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view of learning methods fo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ll data and unknown struc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tial data and known struc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tial data and unknown struc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o why are BBNs relevant to Cognitive CV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514600"/>
            <a:ext cx="80294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a well-founded methodology for reasoning with uncertain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methods are the basis for our model of perception guided by expect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can develop well-founded methods of learning rather than just being stuck with hand-coded mode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791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hy is learning important in the context of BB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63640" y="247176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nowledge acquisition can be an expensive 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rts may not be readily available (scarce knowledge) or simply not ex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t you might have a lot of data from (say) case stud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allows us to construct BBN models from the data and in the process gain insight into the nature of the problem dom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91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xonomy of learning meth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00200" y="2514600"/>
          <a:ext cx="5943600" cy="2066760"/>
        </p:xfrm>
        <a:graphic>
          <a:graphicData uri="http://schemas.openxmlformats.org/drawingml/2006/table">
            <a:tbl>
              <a:tblPr/>
              <a:tblGrid>
                <a:gridCol w="628560"/>
                <a:gridCol w="971640"/>
                <a:gridCol w="2571840"/>
                <a:gridCol w="1771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del structur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now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know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6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l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ximum likelihood estimatio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arch through model spac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rtia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ectation Maximisation (EM) or gradient descent(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M + search through model space (structural EM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 rot="16200000">
            <a:off x="1127880" y="36975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Observability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4729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Arial"/>
              </a:rPr>
              <a:t>In the last lecture we saw the full observability and known model structure case in detai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Arial"/>
              </a:rPr>
              <a:t>In this lecture we will take an overview of the other three cas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lly observable data and unknown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181480" y="2895480"/>
          <a:ext cx="2209680" cy="316872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=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1675440" y="456732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.g. 3 discrete nod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97320" y="525780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We need to establish 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structure and CP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54360" y="2532240"/>
            <a:ext cx="838080" cy="6858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83320" y="2616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2514600"/>
            <a:ext cx="838440" cy="6858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49640" y="2649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89320" y="3591000"/>
            <a:ext cx="838080" cy="6858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4240" y="3689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lly observable data and unknown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219320" y="3505320"/>
            <a:ext cx="1981080" cy="1554120"/>
            <a:chOff x="1219320" y="3505320"/>
            <a:chExt cx="1981080" cy="1554120"/>
          </a:xfrm>
        </p:grpSpPr>
        <p:grpSp>
          <p:nvGrpSpPr>
            <p:cNvPr id="117" name=""/>
            <p:cNvGrpSpPr/>
            <p:nvPr/>
          </p:nvGrpSpPr>
          <p:grpSpPr>
            <a:xfrm>
              <a:off x="1219320" y="3505320"/>
              <a:ext cx="685800" cy="685800"/>
              <a:chOff x="1219320" y="3505320"/>
              <a:chExt cx="685800" cy="685800"/>
            </a:xfrm>
          </p:grpSpPr>
          <p:sp>
            <p:nvSpPr>
              <p:cNvPr id="118" name=""/>
              <p:cNvSpPr/>
              <p:nvPr/>
            </p:nvSpPr>
            <p:spPr>
              <a:xfrm>
                <a:off x="1219320" y="350532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359720" y="36432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859040" y="4373640"/>
              <a:ext cx="685800" cy="685800"/>
              <a:chOff x="1859040" y="4373640"/>
              <a:chExt cx="685800" cy="685800"/>
            </a:xfrm>
          </p:grpSpPr>
          <p:sp>
            <p:nvSpPr>
              <p:cNvPr id="121" name=""/>
              <p:cNvSpPr/>
              <p:nvPr/>
            </p:nvSpPr>
            <p:spPr>
              <a:xfrm>
                <a:off x="1859040" y="437364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999440" y="45115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2514600" y="3505320"/>
              <a:ext cx="685800" cy="685800"/>
              <a:chOff x="2514600" y="3505320"/>
              <a:chExt cx="685800" cy="685800"/>
            </a:xfrm>
          </p:grpSpPr>
          <p:sp>
            <p:nvSpPr>
              <p:cNvPr id="124" name=""/>
              <p:cNvSpPr/>
              <p:nvPr/>
            </p:nvSpPr>
            <p:spPr>
              <a:xfrm>
                <a:off x="2514600" y="350532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654640" y="36432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264200" y="3774960"/>
                <a:ext cx="312408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651480" y="251460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y particular connection configur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ives rise to a graph g. The set of of al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ossible graphs is 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99360" y="4765680"/>
            <a:ext cx="480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e need to find a particular grap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at fits the data best. We saw in th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evious lecture how we can learn th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PT parameters (in the discrete cas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or any particular grap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lly observable data and unknown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37600" y="4584600"/>
            <a:ext cx="7601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o find the best solution (the one that maximises P(G|D) ) w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need to search through some set of possible model configuration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ut the maximum likelihood model would be a complete graph,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nce this would have the maximum number of parameters an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hence fit the data best. But this would likely constitute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OVERFITT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41360" y="2712960"/>
            <a:ext cx="1981440" cy="1554120"/>
            <a:chOff x="1341360" y="2712960"/>
            <a:chExt cx="1981440" cy="1554120"/>
          </a:xfrm>
        </p:grpSpPr>
        <p:grpSp>
          <p:nvGrpSpPr>
            <p:cNvPr id="132" name=""/>
            <p:cNvGrpSpPr/>
            <p:nvPr/>
          </p:nvGrpSpPr>
          <p:grpSpPr>
            <a:xfrm>
              <a:off x="1341360" y="2712960"/>
              <a:ext cx="685800" cy="685800"/>
              <a:chOff x="1341360" y="2712960"/>
              <a:chExt cx="685800" cy="685800"/>
            </a:xfrm>
          </p:grpSpPr>
          <p:sp>
            <p:nvSpPr>
              <p:cNvPr id="133" name=""/>
              <p:cNvSpPr/>
              <p:nvPr/>
            </p:nvSpPr>
            <p:spPr>
              <a:xfrm>
                <a:off x="1341360" y="271296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81760" y="2850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1981080" y="3581280"/>
              <a:ext cx="685800" cy="685800"/>
              <a:chOff x="1981080" y="3581280"/>
              <a:chExt cx="685800" cy="685800"/>
            </a:xfrm>
          </p:grpSpPr>
          <p:sp>
            <p:nvSpPr>
              <p:cNvPr id="136" name=""/>
              <p:cNvSpPr/>
              <p:nvPr/>
            </p:nvSpPr>
            <p:spPr>
              <a:xfrm>
                <a:off x="1981080" y="35812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1480" y="3719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637000" y="2712960"/>
              <a:ext cx="685800" cy="685800"/>
              <a:chOff x="2637000" y="2712960"/>
              <a:chExt cx="685800" cy="685800"/>
            </a:xfrm>
          </p:grpSpPr>
          <p:sp>
            <p:nvSpPr>
              <p:cNvPr id="139" name=""/>
              <p:cNvSpPr/>
              <p:nvPr/>
            </p:nvSpPr>
            <p:spPr>
              <a:xfrm>
                <a:off x="2637000" y="271296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77040" y="28508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027160" y="301788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560320" y="3398760"/>
              <a:ext cx="304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80000" y="2712960"/>
            <a:ext cx="1981080" cy="1554120"/>
            <a:chOff x="3780000" y="2712960"/>
            <a:chExt cx="1981080" cy="1554120"/>
          </a:xfrm>
        </p:grpSpPr>
        <p:grpSp>
          <p:nvGrpSpPr>
            <p:cNvPr id="144" name=""/>
            <p:cNvGrpSpPr/>
            <p:nvPr/>
          </p:nvGrpSpPr>
          <p:grpSpPr>
            <a:xfrm>
              <a:off x="3780000" y="2712960"/>
              <a:ext cx="685800" cy="685800"/>
              <a:chOff x="3780000" y="2712960"/>
              <a:chExt cx="685800" cy="685800"/>
            </a:xfrm>
          </p:grpSpPr>
          <p:sp>
            <p:nvSpPr>
              <p:cNvPr id="145" name=""/>
              <p:cNvSpPr/>
              <p:nvPr/>
            </p:nvSpPr>
            <p:spPr>
              <a:xfrm>
                <a:off x="3780000" y="271296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920400" y="2850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419720" y="3581280"/>
              <a:ext cx="685800" cy="685800"/>
              <a:chOff x="4419720" y="3581280"/>
              <a:chExt cx="685800" cy="685800"/>
            </a:xfrm>
          </p:grpSpPr>
          <p:sp>
            <p:nvSpPr>
              <p:cNvPr id="148" name=""/>
              <p:cNvSpPr/>
              <p:nvPr/>
            </p:nvSpPr>
            <p:spPr>
              <a:xfrm>
                <a:off x="4419720" y="35812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60120" y="3719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075280" y="2712960"/>
              <a:ext cx="685800" cy="685800"/>
              <a:chOff x="5075280" y="2712960"/>
              <a:chExt cx="685800" cy="685800"/>
            </a:xfrm>
          </p:grpSpPr>
          <p:sp>
            <p:nvSpPr>
              <p:cNvPr id="151" name=""/>
              <p:cNvSpPr/>
              <p:nvPr/>
            </p:nvSpPr>
            <p:spPr>
              <a:xfrm>
                <a:off x="5075280" y="271296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15320" y="28508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 flipH="1" flipV="1">
              <a:off x="4345200" y="3279240"/>
              <a:ext cx="3045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998960" y="336816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218280" y="2712960"/>
            <a:ext cx="1981080" cy="1554120"/>
            <a:chOff x="6218280" y="2712960"/>
            <a:chExt cx="1981080" cy="1554120"/>
          </a:xfrm>
        </p:grpSpPr>
        <p:grpSp>
          <p:nvGrpSpPr>
            <p:cNvPr id="156" name=""/>
            <p:cNvGrpSpPr/>
            <p:nvPr/>
          </p:nvGrpSpPr>
          <p:grpSpPr>
            <a:xfrm>
              <a:off x="6218280" y="2712960"/>
              <a:ext cx="685800" cy="685800"/>
              <a:chOff x="6218280" y="2712960"/>
              <a:chExt cx="685800" cy="685800"/>
            </a:xfrm>
          </p:grpSpPr>
          <p:sp>
            <p:nvSpPr>
              <p:cNvPr id="157" name=""/>
              <p:cNvSpPr/>
              <p:nvPr/>
            </p:nvSpPr>
            <p:spPr>
              <a:xfrm>
                <a:off x="6218280" y="271296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358680" y="2850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6858000" y="3581280"/>
              <a:ext cx="685800" cy="685800"/>
              <a:chOff x="6858000" y="3581280"/>
              <a:chExt cx="685800" cy="685800"/>
            </a:xfrm>
          </p:grpSpPr>
          <p:sp>
            <p:nvSpPr>
              <p:cNvPr id="160" name=""/>
              <p:cNvSpPr/>
              <p:nvPr/>
            </p:nvSpPr>
            <p:spPr>
              <a:xfrm>
                <a:off x="6858000" y="35812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998400" y="3719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7513560" y="2712960"/>
              <a:ext cx="685800" cy="685800"/>
              <a:chOff x="7513560" y="2712960"/>
              <a:chExt cx="685800" cy="685800"/>
            </a:xfrm>
          </p:grpSpPr>
          <p:sp>
            <p:nvSpPr>
              <p:cNvPr id="163" name=""/>
              <p:cNvSpPr/>
              <p:nvPr/>
            </p:nvSpPr>
            <p:spPr>
              <a:xfrm>
                <a:off x="7513560" y="271296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653600" y="28508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 flipH="1">
              <a:off x="7361280" y="3398760"/>
              <a:ext cx="3808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lly observable data and unknown stru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98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 get around the problem of overfitting, we introduce a complexity penalty term into the expression for L(G:D) = P(D|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043000" y="3922560"/>
                <a:ext cx="52102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G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im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863640" y="4916520"/>
            <a:ext cx="83059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s the maximum likelihood estimate for the parameters 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for a particular grap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s the # of data sampl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dim 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s the dimension of the model (in the fully observable case, this is the number of free parameters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0:31:27Z</dcterms:created>
  <dc:creator>Sage</dc:creator>
  <dc:description/>
  <dc:language>en-US</dc:language>
  <cp:lastModifiedBy>Sage</cp:lastModifiedBy>
  <dcterms:modified xsi:type="dcterms:W3CDTF">2005-03-24T15:47:35Z</dcterms:modified>
  <cp:revision>91</cp:revision>
  <dc:subject/>
  <dc:title>Markov Models</dc:title>
</cp:coreProperties>
</file>